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A2A7-DDA4-49D1-9B89-3E184ABBB8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C577-5AB7-4A32-B379-BCAE7E47C1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85ED-CF8D-4E39-9831-45B3433F13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E038-BFC2-47C1-BA9E-1414960535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A54-DA1D-415C-A645-1D95DDCAC5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6A9-9C9D-4B13-A1BA-F6F08BCE83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9EE-5269-465C-8E2C-7D63E79C2F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10C-FA38-497A-B0A7-E535BABC59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46EC-3E47-43A7-80B8-DACB099606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BB2-8D71-4466-9A0B-85F61FEEF1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2D91-79C8-4C82-B819-03F452A866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7105-E572-410E-9DC7-FE6118D83D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222F-D7CE-4C09-ABF5-99903144FC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3A61-3AAC-4036-AF7A-BA9C45538B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2A12-A942-4673-AD58-A881477994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557-69F1-474E-B0D9-9511228D59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55BA-19B0-4195-BD5C-EA257E95AE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3FC-B145-42A6-B09D-58D1BE844D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4CBD7-1765-4AD9-AF10-676F2CAE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91987-2832-466F-84BB-5B58B254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A39BC-690B-4587-AA63-58A26806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1377B-8AF5-4216-9EE9-5CF12E2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E6530-E2F0-4134-BD31-F2C79A5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DF039-D66B-463E-935E-2E4ED85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69074-AE02-4F18-9A48-9D4B7296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3DA4D-0AFC-4699-ACEF-33859FA2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4E7E0-7E25-46B7-AEDC-640C81A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37269-B8F4-46B5-9E42-CECF6D88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C6217-8068-42DD-BBCD-F2AF922A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5E1EF-7A71-45D4-B98A-7B66BAF7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D4CFD-4557-4A7C-BCEF-15D4181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9BC17-317F-4E75-9960-7E5E70E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F8F59-F95A-4A6E-9E8B-27FF066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8137D-169C-4C57-9EDA-77DF778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669AE-B39F-4D4C-B376-C212D16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BD102-AA17-4B01-8829-92D56EB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3C38F-C34F-48F0-92BD-DB7DDA3A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21997-CD53-44D4-8B96-48F1E204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D0432-368D-4433-B41C-588FB09E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167336-AF31-4658-832B-E986DCBB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06F578-C153-4E4E-890C-2BC90FE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203165-ADAE-4717-B0FB-066448E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2A52CD-7246-4627-850B-6381AC4D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72D8C2-824C-43FE-BF74-2DD33824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D54215-ACA0-4F24-9580-FBF1CE5C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249E89-5DE8-4595-8D04-AAD2B0DE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6DC6DC-26A1-4212-864D-303CBCD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FB53F0-1606-408E-861E-BDB0420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8C3C3-4AA6-48E8-941A-B3FD8BE8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FD49C7-1705-4566-8359-8EEF6C8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E8DA98-1A1E-446E-A1FD-75083873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19D497-D8C3-411C-A4DA-1318D103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C5C93-C76C-4752-A5FA-291423CA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656EC-2F2E-442D-AA67-323E437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EC164-23EC-4398-8B07-4B967EB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4C052-3C86-498F-9AED-77481B6C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4ADFB-DB18-4F22-8F3F-08514A91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2C4BE-32B8-4922-959F-A30A124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1E07B-DD0D-425D-A06B-73FE57A3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89791-B85A-4DD1-AEA0-A72FCA0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62C8C-830C-4D33-80FC-AA539E6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73722-657C-47C1-85C8-B9122AC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2BE10-4995-49BA-8528-1B861CA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B8D4A-4CDA-489B-8DE2-36A732C3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84426-EA6F-4303-B8AC-4096A952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56F79-ED25-499C-A3A9-000C6B28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360BA-C308-4623-984D-9CB8B0CA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C58E-33D7-4B7F-AD6B-9390BB20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22D96-82E0-47F2-9F95-7D6E4C46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1A7B9-81A7-44B9-9260-05955E51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1CC43-EF40-4AC6-ABEC-B3E0DC6A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01E44-F893-4AD1-90D8-D557EC6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C4F0B-BE85-4BC6-A035-1D442D96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164AA-E541-483F-895E-2737B1DE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E81AE-F0A8-4566-9775-91686D52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514F8-B03F-4DBD-84CB-3B02240C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06DCF-D52F-4B36-A29E-7F658A07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01AA7-2FE0-4623-A1A7-E5808AF4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65E92-A604-4B1D-951B-A22D22E9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843F3-F69C-4CBF-8AC5-E088929D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424A9-DA80-419A-A75D-7C078757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40B91-25B6-4230-8F01-97AAF96D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3079F-B1E2-489A-92F9-D825E567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F9CC1-E811-492E-8653-7A7175E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902FC-12F8-46EE-AD8B-CCA12974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37DBF-B683-45A7-907D-746903CD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E2845-D688-4A5E-8F43-B37082E7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9FDB6-ED9D-4C67-9B5F-3178E4CE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08560-4D7B-463D-B28F-DEB7CCD8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2DAB1-FEFB-49EE-8581-12F33D50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7B4DD-FD11-4B8D-A9AB-75F5EBA8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1A42D3-4F9A-491A-90FA-C6EA6BC2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85EE8-F4E5-45FA-BC41-F54BCDEF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CC963-A7BD-4B99-8B64-47C5CAE2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B388E-C526-4C48-9214-792487E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74906-FEEB-4148-BE6E-5312429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FCD20-377D-4F85-880C-3391C66B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D8D59-B724-4BE3-9745-1113959C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B9C91-977D-4AD6-A939-450282EF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59AA3-5D75-486B-9288-0CB1AD9F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1660D-EE2B-4C0C-BED4-B6874372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0AD9C-CDBD-48CF-A41B-591AA35A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7B229-4A70-4C8B-B99B-8FF67BB0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A7DE00-F35B-4D19-9455-66BF6F5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F0C95-6050-4038-BB4C-1EA40E0C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BE9BB-7844-4180-96EB-944DD48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7C7153-87D8-4E90-BD76-2873280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FEE7DC-6A99-41FF-826F-13F9137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106BD-C903-4D1D-9312-D26F67D6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AEBD2-8353-45D3-AECF-C439618D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1784EE-F6DC-43F5-94D0-55216FDC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4CE39C-43A3-48BF-BE82-C6DFF263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05A37C-48C0-4D97-A7C9-309EB02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7834F-1644-43DC-92B5-70D1A219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78D8D-C61F-4690-BFDD-E0D8BAC8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01291C-48AE-42E9-8C9F-BAA5EA81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BA32AA-AD66-42C4-A227-1F204144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A6A49-6688-4AA0-8748-69C39114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A29B08-94B0-4CC9-AEA0-84E60EA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B23EC4-24EB-4767-BB53-73D2C4F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923506-AA2B-4942-9FF7-28062A76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4E596D-4A86-48FF-BF98-57D8DD03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7D7C6-A2C5-48D9-8B80-9EE36D97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4C975-0BA3-4F0E-B8B1-28B6762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B29DD-4515-4DA0-BE2B-CA8671F5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BA2C76-9D0D-4547-9CFC-1897E367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B91035-D60B-4812-ADF2-833B9967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A50AD-21EA-4DF5-84ED-CA214B6E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6FF28E-0A8D-496F-B4D4-9FB4C38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FF588A-10C5-4C97-A3B1-3ACF226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6F54FB-BD91-4BDD-8547-3E75D73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CF3855-86F8-4BBC-A7D6-C4CA913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3192CD-A053-42D8-8C34-143159D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178A6A-F5C2-49CF-A393-CFA02EEA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725DA7-54C4-4141-B027-60DC1E63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A557AB-90EA-4307-BE85-B8AE091C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4CAA5-0D94-45E2-803A-CC2F594C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B8E57-72ED-4B52-803D-926087EC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9C804-8E05-4F8E-BEB6-A1332E03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B2F6BC-460E-40C0-82CE-BAABE397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0593F-D1A3-4EE7-9515-525343A7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0548BB-09F3-4319-8E7F-71EDE7E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28C53C-7769-42F5-AED7-F4F0505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659FDA-3511-41BB-B834-4B5F8B8A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8397A4-E44D-49BB-9B97-91246CF4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3098C8-72DE-4E24-9E0A-5EB0798F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74450C-1C67-4C20-A621-AE01EF80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5F165-3EBA-41B1-A40A-B6388E09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1DFCB-2E00-491D-B1AC-3D3F01D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7901D-C96D-47CF-BCD2-886BDAC7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904-C9E4-473C-8458-95A961341D1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7B63-1888-4D82-A92E-8F76ACC042F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B14D-C454-4C24-B3F0-295D78760BA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062-A3F5-4DFC-B7A6-6AB8F4CF593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FAE6-BF8A-4DCE-87BA-DE16512C259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1FC2-C8F0-4903-82EC-B93CFFEFAAD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C2B-2A3E-4EF6-88D4-FA524BE05BA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59E-5098-44D6-9CC1-6DEC271126B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A3F-2314-4231-AB43-BB3CA3D1F7F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A754-6AEC-4CB2-A978-91F503F96F9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FFE-83A0-4141-8C14-6EA5FAE7DD8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Image 7" descr="date.gif"/>
          <p:cNvPicPr/>
          <p:nvPr/>
        </p:nvPicPr>
        <p:blipFill>
          <a:blip r:embed="rId1"/>
          <a:stretch/>
        </p:blipFill>
        <p:spPr>
          <a:xfrm>
            <a:off x="1857240" y="214200"/>
            <a:ext cx="5324760" cy="4967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4711680" y="4781520"/>
            <a:ext cx="121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15000" y="4781520"/>
            <a:ext cx="289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1986120" y="4786200"/>
            <a:ext cx="28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214200" y="3429000"/>
            <a:ext cx="162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285840" y="479736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rc 7"/>
          <p:cNvSpPr/>
          <p:nvPr/>
        </p:nvSpPr>
        <p:spPr>
          <a:xfrm flipV="1">
            <a:off x="500040" y="5572080"/>
            <a:ext cx="1071720" cy="928800"/>
          </a:xfrm>
          <a:custGeom>
            <a:avLst/>
            <a:gdLst>
              <a:gd name="textAreaLeft" fmla="*/ 3960 w 1071720"/>
              <a:gd name="textAreaRight" fmla="*/ 1072080 w 1071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  <a:lnTo>
                  <a:pt x="535781" y="464344"/>
                </a:lnTo>
                <a:close/>
              </a:path>
              <a:path fill="none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rc 8"/>
          <p:cNvSpPr/>
          <p:nvPr/>
        </p:nvSpPr>
        <p:spPr>
          <a:xfrm flipV="1">
            <a:off x="2071800" y="5572080"/>
            <a:ext cx="2428920" cy="928800"/>
          </a:xfrm>
          <a:custGeom>
            <a:avLst/>
            <a:gdLst>
              <a:gd name="textAreaLeft" fmla="*/ 44640 w 2428920"/>
              <a:gd name="textAreaRight" fmla="*/ 2429280 w 2428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  <a:lnTo>
                  <a:pt x="1214438" y="464344"/>
                </a:lnTo>
                <a:close/>
              </a:path>
              <a:path fill="none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rc 9"/>
          <p:cNvSpPr/>
          <p:nvPr/>
        </p:nvSpPr>
        <p:spPr>
          <a:xfrm flipV="1">
            <a:off x="4929120" y="5572080"/>
            <a:ext cx="785880" cy="928800"/>
          </a:xfrm>
          <a:custGeom>
            <a:avLst/>
            <a:gdLst>
              <a:gd name="textAreaLeft" fmla="*/ 1440 w 785880"/>
              <a:gd name="textAreaRight" fmla="*/ 786240 w 7858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785812" h="928688">
                <a:moveTo>
                  <a:pt x="1592" y="422579"/>
                </a:moveTo>
                <a:lnTo>
                  <a:pt x="1593" y="422579"/>
                </a:lnTo>
                <a:arcTo wR="392906" hR="464344" stAng="-10434473" swAng="10434473"/>
                <a:lnTo>
                  <a:pt x="392906" y="464344"/>
                </a:lnTo>
                <a:close/>
              </a:path>
              <a:path fill="none" w="785812" h="928688">
                <a:moveTo>
                  <a:pt x="1592" y="422579"/>
                </a:moveTo>
                <a:lnTo>
                  <a:pt x="1593" y="422579"/>
                </a:lnTo>
                <a:arcTo wR="392906" hR="464344" stAng="-10434473" swAng="1043447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rc 10"/>
          <p:cNvSpPr/>
          <p:nvPr/>
        </p:nvSpPr>
        <p:spPr>
          <a:xfrm flipV="1">
            <a:off x="5857920" y="5572080"/>
            <a:ext cx="2286000" cy="928800"/>
          </a:xfrm>
          <a:custGeom>
            <a:avLst/>
            <a:gdLst>
              <a:gd name="textAreaLeft" fmla="*/ 37440 w 2286000"/>
              <a:gd name="textAreaRight" fmla="*/ 2286360 w 2286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86000" h="928688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  <a:lnTo>
                  <a:pt x="1143000" y="464344"/>
                </a:lnTo>
                <a:close/>
              </a:path>
              <a:path fill="none" w="2286000" h="928688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42876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6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Image 7" descr="slee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06872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2"/>
          <p:cNvSpPr/>
          <p:nvPr/>
        </p:nvSpPr>
        <p:spPr>
          <a:xfrm>
            <a:off x="1785960" y="4859280"/>
            <a:ext cx="17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3214800" y="487368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d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552840" y="3429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u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250920" y="3430440"/>
            <a:ext cx="146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1609560" y="3430440"/>
            <a:ext cx="20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5000760" y="487368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rc 9"/>
          <p:cNvSpPr/>
          <p:nvPr/>
        </p:nvSpPr>
        <p:spPr>
          <a:xfrm flipV="1">
            <a:off x="1785960" y="4143240"/>
            <a:ext cx="1571760" cy="928800"/>
          </a:xfrm>
          <a:custGeom>
            <a:avLst/>
            <a:gdLst>
              <a:gd name="textAreaLeft" fmla="*/ 12240 w 1571760"/>
              <a:gd name="textAreaRight" fmla="*/ 1572120 w 15717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  <a:lnTo>
                  <a:pt x="785813" y="464344"/>
                </a:lnTo>
                <a:close/>
              </a:path>
              <a:path fill="none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rc 10"/>
          <p:cNvSpPr/>
          <p:nvPr/>
        </p:nvSpPr>
        <p:spPr>
          <a:xfrm flipV="1">
            <a:off x="3643200" y="4143240"/>
            <a:ext cx="2214720" cy="92880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14562" h="928688">
                <a:moveTo>
                  <a:pt x="34208" y="349816"/>
                </a:moveTo>
                <a:lnTo>
                  <a:pt x="34208" y="349816"/>
                </a:lnTo>
                <a:arcTo wR="1107281" hR="464344" stAng="-10434476" swAng="10434486"/>
                <a:lnTo>
                  <a:pt x="1107281" y="464344"/>
                </a:lnTo>
                <a:close/>
              </a:path>
              <a:path fill="none" w="2214562" h="928688">
                <a:moveTo>
                  <a:pt x="34208" y="349816"/>
                </a:moveTo>
                <a:lnTo>
                  <a:pt x="34208" y="349816"/>
                </a:lnTo>
                <a:arcTo wR="1107281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rc 11"/>
          <p:cNvSpPr/>
          <p:nvPr/>
        </p:nvSpPr>
        <p:spPr>
          <a:xfrm flipV="1">
            <a:off x="1785960" y="5572080"/>
            <a:ext cx="1428840" cy="928800"/>
          </a:xfrm>
          <a:custGeom>
            <a:avLst/>
            <a:gdLst>
              <a:gd name="textAreaLeft" fmla="*/ 9360 w 1428840"/>
              <a:gd name="textAreaRight" fmla="*/ 1429200 w 14288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428750" h="928688">
                <a:moveTo>
                  <a:pt x="9440" y="389107"/>
                </a:moveTo>
                <a:lnTo>
                  <a:pt x="9440" y="389107"/>
                </a:lnTo>
                <a:arcTo wR="714375" hR="464344" stAng="-10434476" swAng="10434486"/>
                <a:lnTo>
                  <a:pt x="714375" y="464344"/>
                </a:lnTo>
                <a:close/>
              </a:path>
              <a:path fill="none" w="1428750" h="928688">
                <a:moveTo>
                  <a:pt x="9440" y="389107"/>
                </a:moveTo>
                <a:lnTo>
                  <a:pt x="9440" y="389107"/>
                </a:lnTo>
                <a:arcTo wR="714375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rc 12"/>
          <p:cNvSpPr/>
          <p:nvPr/>
        </p:nvSpPr>
        <p:spPr>
          <a:xfrm flipV="1">
            <a:off x="3357720" y="5500800"/>
            <a:ext cx="1643040" cy="1000080"/>
          </a:xfrm>
          <a:custGeom>
            <a:avLst/>
            <a:gdLst>
              <a:gd name="textAreaLeft" fmla="*/ 12240 w 1643040"/>
              <a:gd name="textAreaRight" fmla="*/ 1643400 w 164304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643062" h="1000125">
                <a:moveTo>
                  <a:pt x="12345" y="413699"/>
                </a:moveTo>
                <a:lnTo>
                  <a:pt x="12345" y="413699"/>
                </a:lnTo>
                <a:arcTo wR="821531" hR="500063" stAng="-10434475" swAng="10434483"/>
                <a:lnTo>
                  <a:pt x="821531" y="500063"/>
                </a:lnTo>
                <a:close/>
              </a:path>
              <a:path fill="none" w="1643062" h="1000125">
                <a:moveTo>
                  <a:pt x="12345" y="413699"/>
                </a:moveTo>
                <a:lnTo>
                  <a:pt x="12345" y="413699"/>
                </a:lnTo>
                <a:arcTo wR="821531" hR="500063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rc 13"/>
          <p:cNvSpPr/>
          <p:nvPr/>
        </p:nvSpPr>
        <p:spPr>
          <a:xfrm flipV="1">
            <a:off x="5143680" y="5572080"/>
            <a:ext cx="1928520" cy="1000080"/>
          </a:xfrm>
          <a:custGeom>
            <a:avLst/>
            <a:gdLst>
              <a:gd name="textAreaLeft" fmla="*/ 19800 w 1928520"/>
              <a:gd name="textAreaRight" fmla="*/ 1928880 w 19285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928813" h="1000125">
                <a:moveTo>
                  <a:pt x="19803" y="399246"/>
                </a:moveTo>
                <a:lnTo>
                  <a:pt x="19803" y="399246"/>
                </a:lnTo>
                <a:arcTo wR="964407" hR="500063" stAng="-10434475" swAng="10434482"/>
                <a:lnTo>
                  <a:pt x="964407" y="500063"/>
                </a:lnTo>
                <a:close/>
              </a:path>
              <a:path fill="none" w="1928813" h="1000125">
                <a:moveTo>
                  <a:pt x="19803" y="399246"/>
                </a:moveTo>
                <a:lnTo>
                  <a:pt x="19803" y="399246"/>
                </a:lnTo>
                <a:arcTo wR="964407" hR="500063" stAng="-10434475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4"/>
          <p:cNvSpPr/>
          <p:nvPr/>
        </p:nvSpPr>
        <p:spPr>
          <a:xfrm>
            <a:off x="1500120" y="4572000"/>
            <a:ext cx="79297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5"/>
          <p:cNvSpPr/>
          <p:nvPr/>
        </p:nvSpPr>
        <p:spPr>
          <a:xfrm>
            <a:off x="0" y="6000840"/>
            <a:ext cx="89298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33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8229600" y="-717120"/>
            <a:ext cx="286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C:\Users\Ateliers ALEA\Pictures\ALEA images\IMAGES-verbes\washhand.gif"/>
          <p:cNvPicPr/>
          <p:nvPr/>
        </p:nvPicPr>
        <p:blipFill>
          <a:blip r:embed="rId1"/>
          <a:stretch/>
        </p:blipFill>
        <p:spPr>
          <a:xfrm>
            <a:off x="1071720" y="142920"/>
            <a:ext cx="6072120" cy="48402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3"/>
          <p:cNvSpPr/>
          <p:nvPr/>
        </p:nvSpPr>
        <p:spPr>
          <a:xfrm>
            <a:off x="4929120" y="4786200"/>
            <a:ext cx="18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4025880" y="4786200"/>
            <a:ext cx="165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0" y="4786200"/>
            <a:ext cx="16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1571760" y="4791240"/>
            <a:ext cx="246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’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6500880" y="544500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rc 9"/>
          <p:cNvSpPr/>
          <p:nvPr/>
        </p:nvSpPr>
        <p:spPr>
          <a:xfrm flipV="1">
            <a:off x="1714680" y="5572080"/>
            <a:ext cx="1785600" cy="928800"/>
          </a:xfrm>
          <a:custGeom>
            <a:avLst/>
            <a:gdLst>
              <a:gd name="textAreaLeft" fmla="*/ 18000 w 1785600"/>
              <a:gd name="textAreaRight" fmla="*/ 1785960 w 17856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85938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  <a:lnTo>
                  <a:pt x="892969" y="464344"/>
                </a:lnTo>
                <a:close/>
              </a:path>
              <a:path fill="none" w="1785938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rc 10"/>
          <p:cNvSpPr/>
          <p:nvPr/>
        </p:nvSpPr>
        <p:spPr>
          <a:xfrm flipV="1">
            <a:off x="4143240" y="5572080"/>
            <a:ext cx="928800" cy="928800"/>
          </a:xfrm>
          <a:custGeom>
            <a:avLst/>
            <a:gdLst>
              <a:gd name="textAreaLeft" fmla="*/ 2520 w 928800"/>
              <a:gd name="textAreaRight" fmla="*/ 929160 w 9288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  <a:lnTo>
                  <a:pt x="464344" y="464344"/>
                </a:lnTo>
                <a:close/>
              </a:path>
              <a:path fill="none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rc 11"/>
          <p:cNvSpPr/>
          <p:nvPr/>
        </p:nvSpPr>
        <p:spPr>
          <a:xfrm flipV="1">
            <a:off x="5143680" y="557208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64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"/>
          <p:cNvPicPr/>
          <p:nvPr/>
        </p:nvPicPr>
        <p:blipFill>
          <a:blip r:embed="rId1"/>
          <a:stretch/>
        </p:blipFill>
        <p:spPr>
          <a:xfrm>
            <a:off x="785880" y="189000"/>
            <a:ext cx="6715080" cy="52671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2"/>
          <p:cNvSpPr/>
          <p:nvPr/>
        </p:nvSpPr>
        <p:spPr>
          <a:xfrm>
            <a:off x="435600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6143760" y="4781520"/>
            <a:ext cx="24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r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900000" y="478152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629080" y="479736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rc 6"/>
          <p:cNvSpPr/>
          <p:nvPr/>
        </p:nvSpPr>
        <p:spPr>
          <a:xfrm flipV="1">
            <a:off x="2786040" y="5572080"/>
            <a:ext cx="1214640" cy="928800"/>
          </a:xfrm>
          <a:custGeom>
            <a:avLst/>
            <a:gdLst>
              <a:gd name="textAreaLeft" fmla="*/ 5760 w 1214640"/>
              <a:gd name="textAreaRight" fmla="*/ 1215000 w 12146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  <a:lnTo>
                  <a:pt x="607219" y="464344"/>
                </a:lnTo>
                <a:close/>
              </a:path>
              <a:path fill="none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rc 8"/>
          <p:cNvSpPr/>
          <p:nvPr/>
        </p:nvSpPr>
        <p:spPr>
          <a:xfrm flipV="1">
            <a:off x="4500720" y="5572080"/>
            <a:ext cx="1643040" cy="928800"/>
          </a:xfrm>
          <a:custGeom>
            <a:avLst/>
            <a:gdLst>
              <a:gd name="textAreaLeft" fmla="*/ 14040 w 1643040"/>
              <a:gd name="textAreaRight" fmla="*/ 1643400 w 16430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  <a:lnTo>
                  <a:pt x="821531" y="464344"/>
                </a:lnTo>
                <a:close/>
              </a:path>
              <a:path fill="none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rc 9"/>
          <p:cNvSpPr/>
          <p:nvPr/>
        </p:nvSpPr>
        <p:spPr>
          <a:xfrm flipV="1">
            <a:off x="6286680" y="5572080"/>
            <a:ext cx="1500120" cy="928800"/>
          </a:xfrm>
          <a:custGeom>
            <a:avLst/>
            <a:gdLst>
              <a:gd name="textAreaLeft" fmla="*/ 10800 w 1500120"/>
              <a:gd name="textAreaRight" fmla="*/ 1500480 w 15001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  <a:lnTo>
                  <a:pt x="750094" y="464344"/>
                </a:lnTo>
                <a:close/>
              </a:path>
              <a:path fill="none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90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3"/>
          <p:cNvSpPr/>
          <p:nvPr/>
        </p:nvSpPr>
        <p:spPr>
          <a:xfrm>
            <a:off x="5357880" y="478152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s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4633920" y="4781520"/>
            <a:ext cx="165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608040" y="4781520"/>
            <a:ext cx="16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2179800" y="4786200"/>
            <a:ext cx="24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’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7" descr="sit.gif"/>
          <p:cNvPicPr/>
          <p:nvPr/>
        </p:nvPicPr>
        <p:blipFill>
          <a:blip r:embed="rId1"/>
          <a:stretch/>
        </p:blipFill>
        <p:spPr>
          <a:xfrm>
            <a:off x="1785960" y="0"/>
            <a:ext cx="5405400" cy="5000760"/>
          </a:xfrm>
          <a:prstGeom prst="rect">
            <a:avLst/>
          </a:prstGeom>
          <a:ln w="0">
            <a:noFill/>
          </a:ln>
        </p:spPr>
      </p:pic>
      <p:sp>
        <p:nvSpPr>
          <p:cNvPr id="681" name="Arc 6"/>
          <p:cNvSpPr/>
          <p:nvPr/>
        </p:nvSpPr>
        <p:spPr>
          <a:xfrm flipV="1">
            <a:off x="2357280" y="5572080"/>
            <a:ext cx="1785960" cy="928800"/>
          </a:xfrm>
          <a:custGeom>
            <a:avLst/>
            <a:gdLst>
              <a:gd name="textAreaLeft" fmla="*/ 18000 w 1785960"/>
              <a:gd name="textAreaRight" fmla="*/ 1786320 w 17859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85937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  <a:lnTo>
                  <a:pt x="892969" y="464344"/>
                </a:lnTo>
                <a:close/>
              </a:path>
              <a:path fill="none" w="1785937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rc 9"/>
          <p:cNvSpPr/>
          <p:nvPr/>
        </p:nvSpPr>
        <p:spPr>
          <a:xfrm flipV="1">
            <a:off x="4714920" y="5572080"/>
            <a:ext cx="714240" cy="928800"/>
          </a:xfrm>
          <a:custGeom>
            <a:avLst/>
            <a:gdLst>
              <a:gd name="textAreaLeft" fmla="*/ 1080 w 714240"/>
              <a:gd name="textAreaRight" fmla="*/ 714600 w 7142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714375" h="928688">
                <a:moveTo>
                  <a:pt x="1198" y="426350"/>
                </a:moveTo>
                <a:lnTo>
                  <a:pt x="1198" y="426350"/>
                </a:lnTo>
                <a:arcTo wR="357188" hR="464344" stAng="-10434471" swAng="10434471"/>
                <a:lnTo>
                  <a:pt x="357188" y="464344"/>
                </a:lnTo>
                <a:close/>
              </a:path>
              <a:path fill="none" w="714375" h="928688">
                <a:moveTo>
                  <a:pt x="1198" y="426350"/>
                </a:moveTo>
                <a:lnTo>
                  <a:pt x="1198" y="426350"/>
                </a:lnTo>
                <a:arcTo wR="357188" hR="464344" stAng="-10434471" swAng="1043447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rc 10"/>
          <p:cNvSpPr/>
          <p:nvPr/>
        </p:nvSpPr>
        <p:spPr>
          <a:xfrm flipV="1">
            <a:off x="5500800" y="5572080"/>
            <a:ext cx="2071440" cy="928800"/>
          </a:xfrm>
          <a:custGeom>
            <a:avLst/>
            <a:gdLst>
              <a:gd name="textAreaLeft" fmla="*/ 28080 w 2071440"/>
              <a:gd name="textAreaRight" fmla="*/ 2071800 w 20714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  <a:lnTo>
                  <a:pt x="1035844" y="464344"/>
                </a:lnTo>
                <a:close/>
              </a:path>
              <a:path fill="none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11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C:\Users\Ateliers ALEA\Pictures\ALEA images\IMAGES-verbes\tumble.gif"/>
          <p:cNvPicPr/>
          <p:nvPr/>
        </p:nvPicPr>
        <p:blipFill>
          <a:blip r:embed="rId1"/>
          <a:stretch/>
        </p:blipFill>
        <p:spPr>
          <a:xfrm>
            <a:off x="928800" y="0"/>
            <a:ext cx="6572160" cy="50198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4"/>
          <p:cNvSpPr/>
          <p:nvPr/>
        </p:nvSpPr>
        <p:spPr>
          <a:xfrm>
            <a:off x="7553160" y="478620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b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5568840" y="4786200"/>
            <a:ext cx="221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71280" y="4807080"/>
            <a:ext cx="27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2928960" y="4791240"/>
            <a:ext cx="338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ê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rc 9"/>
          <p:cNvSpPr/>
          <p:nvPr/>
        </p:nvSpPr>
        <p:spPr>
          <a:xfrm flipV="1">
            <a:off x="3143160" y="5572080"/>
            <a:ext cx="2214720" cy="92880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  <a:lnTo>
                  <a:pt x="1107282" y="464344"/>
                </a:lnTo>
                <a:close/>
              </a:path>
              <a:path fill="none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rc 10"/>
          <p:cNvSpPr/>
          <p:nvPr/>
        </p:nvSpPr>
        <p:spPr>
          <a:xfrm flipV="1">
            <a:off x="5786280" y="5572080"/>
            <a:ext cx="1857600" cy="928800"/>
          </a:xfrm>
          <a:custGeom>
            <a:avLst/>
            <a:gdLst>
              <a:gd name="textAreaLeft" fmla="*/ 20160 w 1857600"/>
              <a:gd name="textAreaRight" fmla="*/ 1857960 w 18576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857375" h="928688">
                <a:moveTo>
                  <a:pt x="20461" y="367410"/>
                </a:moveTo>
                <a:lnTo>
                  <a:pt x="20461" y="367410"/>
                </a:lnTo>
                <a:arcTo wR="928688" hR="464344" stAng="-10434477" swAng="10434484"/>
                <a:lnTo>
                  <a:pt x="928688" y="464344"/>
                </a:lnTo>
                <a:close/>
              </a:path>
              <a:path fill="none" w="1857375" h="928688">
                <a:moveTo>
                  <a:pt x="20461" y="367410"/>
                </a:moveTo>
                <a:lnTo>
                  <a:pt x="20461" y="367410"/>
                </a:lnTo>
                <a:arcTo wR="928688" hR="464344" stAng="-10434477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rc 11"/>
          <p:cNvSpPr/>
          <p:nvPr/>
        </p:nvSpPr>
        <p:spPr>
          <a:xfrm flipV="1">
            <a:off x="7715160" y="5572080"/>
            <a:ext cx="1214640" cy="928800"/>
          </a:xfrm>
          <a:custGeom>
            <a:avLst/>
            <a:gdLst>
              <a:gd name="textAreaLeft" fmla="*/ 5760 w 1214640"/>
              <a:gd name="textAreaRight" fmla="*/ 1215000 w 12146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14438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  <a:lnTo>
                  <a:pt x="607219" y="464344"/>
                </a:lnTo>
                <a:close/>
              </a:path>
              <a:path fill="none" w="1214438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2857680" y="6046920"/>
            <a:ext cx="607212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32" dur="2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4"/>
          <p:cNvSpPr/>
          <p:nvPr/>
        </p:nvSpPr>
        <p:spPr>
          <a:xfrm>
            <a:off x="6429240" y="478152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5497560" y="4781520"/>
            <a:ext cx="143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1428840" y="4802040"/>
            <a:ext cx="88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2468520" y="4786200"/>
            <a:ext cx="338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’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Image 6" descr="stand2.gif"/>
          <p:cNvPicPr/>
          <p:nvPr/>
        </p:nvPicPr>
        <p:blipFill>
          <a:blip r:embed="rId1"/>
          <a:stretch/>
        </p:blipFill>
        <p:spPr>
          <a:xfrm>
            <a:off x="2357280" y="0"/>
            <a:ext cx="5405760" cy="5000760"/>
          </a:xfrm>
          <a:prstGeom prst="rect">
            <a:avLst/>
          </a:prstGeom>
          <a:ln w="0">
            <a:noFill/>
          </a:ln>
        </p:spPr>
      </p:pic>
      <p:sp>
        <p:nvSpPr>
          <p:cNvPr id="699" name="Arc 7"/>
          <p:cNvSpPr/>
          <p:nvPr/>
        </p:nvSpPr>
        <p:spPr>
          <a:xfrm flipV="1">
            <a:off x="2571840" y="5500800"/>
            <a:ext cx="2643120" cy="1000080"/>
          </a:xfrm>
          <a:custGeom>
            <a:avLst/>
            <a:gdLst>
              <a:gd name="textAreaLeft" fmla="*/ 49320 w 2643120"/>
              <a:gd name="textAreaRight" fmla="*/ 2643480 w 26431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2643188" h="1000125">
                <a:moveTo>
                  <a:pt x="49632" y="364307"/>
                </a:moveTo>
                <a:lnTo>
                  <a:pt x="49632" y="364307"/>
                </a:lnTo>
                <a:arcTo wR="1321594" hR="500063" stAng="-10434477" swAng="10434485"/>
                <a:lnTo>
                  <a:pt x="1321594" y="500063"/>
                </a:lnTo>
                <a:close/>
              </a:path>
              <a:path fill="none" w="2643188" h="1000125">
                <a:moveTo>
                  <a:pt x="49632" y="364307"/>
                </a:moveTo>
                <a:lnTo>
                  <a:pt x="49632" y="364307"/>
                </a:lnTo>
                <a:arcTo wR="1321594" hR="500063" stAng="-10434477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8"/>
          <p:cNvSpPr/>
          <p:nvPr/>
        </p:nvSpPr>
        <p:spPr>
          <a:xfrm flipV="1">
            <a:off x="5572080" y="5572080"/>
            <a:ext cx="928800" cy="928800"/>
          </a:xfrm>
          <a:custGeom>
            <a:avLst/>
            <a:gdLst>
              <a:gd name="textAreaLeft" fmla="*/ 2520 w 928800"/>
              <a:gd name="textAreaRight" fmla="*/ 929160 w 9288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  <a:lnTo>
                  <a:pt x="464344" y="464344"/>
                </a:lnTo>
                <a:close/>
              </a:path>
              <a:path fill="none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rc 9"/>
          <p:cNvSpPr/>
          <p:nvPr/>
        </p:nvSpPr>
        <p:spPr>
          <a:xfrm flipV="1">
            <a:off x="6643800" y="557208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2286000" y="5929200"/>
            <a:ext cx="66438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53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C:\Users\Ateliers ALEA\Pictures\ALEA images\IMAGES-verbes\washface.gif"/>
          <p:cNvPicPr/>
          <p:nvPr/>
        </p:nvPicPr>
        <p:blipFill>
          <a:blip r:embed="rId1"/>
          <a:stretch/>
        </p:blipFill>
        <p:spPr>
          <a:xfrm>
            <a:off x="1071720" y="0"/>
            <a:ext cx="6500520" cy="4292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3"/>
          <p:cNvSpPr/>
          <p:nvPr/>
        </p:nvSpPr>
        <p:spPr>
          <a:xfrm flipH="1">
            <a:off x="-2484360" y="4365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2557440" y="5301720"/>
            <a:ext cx="1008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rc 9"/>
          <p:cNvSpPr/>
          <p:nvPr/>
        </p:nvSpPr>
        <p:spPr>
          <a:xfrm flipV="1">
            <a:off x="2071800" y="4429080"/>
            <a:ext cx="1571400" cy="928800"/>
          </a:xfrm>
          <a:custGeom>
            <a:avLst/>
            <a:gdLst>
              <a:gd name="textAreaLeft" fmla="*/ 12240 w 1571400"/>
              <a:gd name="textAreaRight" fmla="*/ 1571760 w 15714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  <a:lnTo>
                  <a:pt x="785813" y="464344"/>
                </a:lnTo>
                <a:close/>
              </a:path>
              <a:path fill="none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10"/>
          <p:cNvSpPr/>
          <p:nvPr/>
        </p:nvSpPr>
        <p:spPr>
          <a:xfrm flipV="1">
            <a:off x="285840" y="5500800"/>
            <a:ext cx="2071440" cy="1000080"/>
          </a:xfrm>
          <a:custGeom>
            <a:avLst/>
            <a:gdLst>
              <a:gd name="textAreaLeft" fmla="*/ 24120 w 2071440"/>
              <a:gd name="textAreaRight" fmla="*/ 2071800 w 207144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2071688" h="1000125">
                <a:moveTo>
                  <a:pt x="24423" y="392114"/>
                </a:moveTo>
                <a:lnTo>
                  <a:pt x="24423" y="392114"/>
                </a:lnTo>
                <a:arcTo wR="1035844" hR="500063" stAng="-10434476" swAng="10434486"/>
                <a:lnTo>
                  <a:pt x="1035844" y="500063"/>
                </a:lnTo>
                <a:close/>
              </a:path>
              <a:path fill="none" w="2071688" h="1000125">
                <a:moveTo>
                  <a:pt x="24423" y="392114"/>
                </a:moveTo>
                <a:lnTo>
                  <a:pt x="24423" y="392114"/>
                </a:lnTo>
                <a:arcTo wR="1035844" hR="500063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rc 11"/>
          <p:cNvSpPr/>
          <p:nvPr/>
        </p:nvSpPr>
        <p:spPr>
          <a:xfrm flipV="1">
            <a:off x="3929040" y="5428440"/>
            <a:ext cx="857160" cy="1071720"/>
          </a:xfrm>
          <a:custGeom>
            <a:avLst/>
            <a:gdLst>
              <a:gd name="textAreaLeft" fmla="*/ 1440 w 857160"/>
              <a:gd name="textAreaRight" fmla="*/ 857520 w 857160"/>
              <a:gd name="textAreaTop" fmla="*/ 0 h 1071720"/>
              <a:gd name="textAreaBottom" fmla="*/ 536040 h 1071720"/>
            </a:gdLst>
            <a:ahLst/>
            <a:rect l="textAreaLeft" t="textAreaTop" r="textAreaRight" b="textAreaBottom"/>
            <a:pathLst>
              <a:path stroke="0" w="857250" h="1071563">
                <a:moveTo>
                  <a:pt x="1554" y="490201"/>
                </a:moveTo>
                <a:lnTo>
                  <a:pt x="1554" y="490201"/>
                </a:lnTo>
                <a:arcTo wR="428625" hR="535782" stAng="-10434475" swAng="10434483"/>
                <a:lnTo>
                  <a:pt x="428625" y="535782"/>
                </a:lnTo>
                <a:close/>
              </a:path>
              <a:path fill="none" w="857250" h="1071563">
                <a:moveTo>
                  <a:pt x="1554" y="490201"/>
                </a:moveTo>
                <a:lnTo>
                  <a:pt x="1554" y="490201"/>
                </a:lnTo>
                <a:arcTo wR="428625" hR="535782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rc 12"/>
          <p:cNvSpPr/>
          <p:nvPr/>
        </p:nvSpPr>
        <p:spPr>
          <a:xfrm flipV="1">
            <a:off x="4929120" y="5572080"/>
            <a:ext cx="1071720" cy="928800"/>
          </a:xfrm>
          <a:custGeom>
            <a:avLst/>
            <a:gdLst>
              <a:gd name="textAreaLeft" fmla="*/ 3960 w 1071720"/>
              <a:gd name="textAreaRight" fmla="*/ 1072080 w 1071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  <a:lnTo>
                  <a:pt x="535781" y="464344"/>
                </a:lnTo>
                <a:close/>
              </a:path>
              <a:path fill="none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7"/>
          <p:cNvSpPr/>
          <p:nvPr/>
        </p:nvSpPr>
        <p:spPr>
          <a:xfrm flipH="1">
            <a:off x="684360" y="3789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Je me suis lavé le vis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4"/>
          <p:cNvSpPr/>
          <p:nvPr/>
        </p:nvSpPr>
        <p:spPr>
          <a:xfrm flipV="1">
            <a:off x="-3421080" y="1700280"/>
            <a:ext cx="86364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74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Image 6" descr="takewalk.gif"/>
          <p:cNvPicPr/>
          <p:nvPr/>
        </p:nvPicPr>
        <p:blipFill>
          <a:blip r:embed="rId1"/>
          <a:srcRect l="0" t="0" r="9057" b="0"/>
          <a:stretch/>
        </p:blipFill>
        <p:spPr>
          <a:xfrm>
            <a:off x="1762200" y="142920"/>
            <a:ext cx="5738760" cy="449568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3"/>
          <p:cNvSpPr/>
          <p:nvPr/>
        </p:nvSpPr>
        <p:spPr>
          <a:xfrm>
            <a:off x="2857680" y="4781520"/>
            <a:ext cx="38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pr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1420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28520" y="185724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142920" y="3286080"/>
            <a:ext cx="158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357960" y="478800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rc 7"/>
          <p:cNvSpPr/>
          <p:nvPr/>
        </p:nvSpPr>
        <p:spPr>
          <a:xfrm flipV="1">
            <a:off x="357120" y="4071960"/>
            <a:ext cx="1071720" cy="1000080"/>
          </a:xfrm>
          <a:custGeom>
            <a:avLst/>
            <a:gdLst>
              <a:gd name="textAreaLeft" fmla="*/ 3240 w 1071720"/>
              <a:gd name="textAreaRight" fmla="*/ 1072080 w 10717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071562" h="1000125">
                <a:moveTo>
                  <a:pt x="3469" y="443249"/>
                </a:moveTo>
                <a:lnTo>
                  <a:pt x="3469" y="443249"/>
                </a:lnTo>
                <a:arcTo wR="535781" hR="500063" stAng="-10434477" swAng="10434484"/>
                <a:lnTo>
                  <a:pt x="535781" y="500063"/>
                </a:lnTo>
                <a:close/>
              </a:path>
              <a:path fill="none" w="1071562" h="1000125">
                <a:moveTo>
                  <a:pt x="3469" y="443249"/>
                </a:moveTo>
                <a:lnTo>
                  <a:pt x="3469" y="443249"/>
                </a:lnTo>
                <a:arcTo wR="535781" hR="500063" stAng="-10434477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rc 9"/>
          <p:cNvSpPr/>
          <p:nvPr/>
        </p:nvSpPr>
        <p:spPr>
          <a:xfrm flipV="1">
            <a:off x="2928960" y="5572080"/>
            <a:ext cx="3429000" cy="928800"/>
          </a:xfrm>
          <a:custGeom>
            <a:avLst/>
            <a:gdLst>
              <a:gd name="textAreaLeft" fmla="*/ 119160 w 3429000"/>
              <a:gd name="textAreaRight" fmla="*/ 3429360 w 3429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3429000" h="928688">
                <a:moveTo>
                  <a:pt x="119389" y="294099"/>
                </a:moveTo>
                <a:lnTo>
                  <a:pt x="119390" y="294099"/>
                </a:lnTo>
                <a:arcTo wR="1714500" hR="464344" stAng="-10434476" swAng="10434484"/>
                <a:lnTo>
                  <a:pt x="1714500" y="464344"/>
                </a:lnTo>
                <a:close/>
              </a:path>
              <a:path fill="none" w="3429000" h="928688">
                <a:moveTo>
                  <a:pt x="119389" y="294099"/>
                </a:moveTo>
                <a:lnTo>
                  <a:pt x="119390" y="294099"/>
                </a:lnTo>
                <a:arcTo wR="1714500" hR="464344" stAng="-10434476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rc 11"/>
          <p:cNvSpPr/>
          <p:nvPr/>
        </p:nvSpPr>
        <p:spPr>
          <a:xfrm flipV="1">
            <a:off x="6429240" y="5572080"/>
            <a:ext cx="1928880" cy="928800"/>
          </a:xfrm>
          <a:custGeom>
            <a:avLst/>
            <a:gdLst>
              <a:gd name="textAreaLeft" fmla="*/ 22680 w 1928880"/>
              <a:gd name="textAreaRight" fmla="*/ 1929240 w 19288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928813" h="928688">
                <a:moveTo>
                  <a:pt x="22855" y="363853"/>
                </a:moveTo>
                <a:lnTo>
                  <a:pt x="22855" y="363853"/>
                </a:lnTo>
                <a:arcTo wR="964407" hR="464344" stAng="-10434476" swAng="10434483"/>
                <a:lnTo>
                  <a:pt x="964407" y="464344"/>
                </a:lnTo>
                <a:close/>
              </a:path>
              <a:path fill="none" w="1928813" h="928688">
                <a:moveTo>
                  <a:pt x="22855" y="363853"/>
                </a:moveTo>
                <a:lnTo>
                  <a:pt x="22855" y="363853"/>
                </a:lnTo>
                <a:arcTo wR="964407" hR="464344" stAng="-10434476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rc 12"/>
          <p:cNvSpPr/>
          <p:nvPr/>
        </p:nvSpPr>
        <p:spPr>
          <a:xfrm flipV="1">
            <a:off x="357120" y="5643000"/>
            <a:ext cx="2286000" cy="928440"/>
          </a:xfrm>
          <a:custGeom>
            <a:avLst/>
            <a:gdLst>
              <a:gd name="textAreaLeft" fmla="*/ 37440 w 2286000"/>
              <a:gd name="textAreaRight" fmla="*/ 2286360 w 228600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286000" h="928687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  <a:lnTo>
                  <a:pt x="1143000" y="464344"/>
                </a:lnTo>
                <a:close/>
              </a:path>
              <a:path fill="none" w="2286000" h="928687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214200" y="4572000"/>
            <a:ext cx="471492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5"/>
          <p:cNvSpPr/>
          <p:nvPr/>
        </p:nvSpPr>
        <p:spPr>
          <a:xfrm>
            <a:off x="0" y="6046920"/>
            <a:ext cx="89298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95" dur="2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98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3"/>
          <p:cNvSpPr/>
          <p:nvPr/>
        </p:nvSpPr>
        <p:spPr>
          <a:xfrm>
            <a:off x="5294160" y="4781520"/>
            <a:ext cx="184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e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6929280" y="4781520"/>
            <a:ext cx="14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l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137120" y="4781520"/>
            <a:ext cx="150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24000" y="4797360"/>
            <a:ext cx="103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220760" y="4797360"/>
            <a:ext cx="277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’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Image 7" descr="getup.gif"/>
          <p:cNvPicPr/>
          <p:nvPr/>
        </p:nvPicPr>
        <p:blipFill>
          <a:blip r:embed="rId1"/>
          <a:stretch/>
        </p:blipFill>
        <p:spPr>
          <a:xfrm>
            <a:off x="1190520" y="428760"/>
            <a:ext cx="6024600" cy="4457520"/>
          </a:xfrm>
          <a:prstGeom prst="rect">
            <a:avLst/>
          </a:prstGeom>
          <a:ln w="0">
            <a:noFill/>
          </a:ln>
        </p:spPr>
      </p:pic>
      <p:sp>
        <p:nvSpPr>
          <p:cNvPr id="562" name="Arc 7"/>
          <p:cNvSpPr/>
          <p:nvPr/>
        </p:nvSpPr>
        <p:spPr>
          <a:xfrm flipV="1">
            <a:off x="1357200" y="5572080"/>
            <a:ext cx="2571840" cy="928800"/>
          </a:xfrm>
          <a:custGeom>
            <a:avLst/>
            <a:gdLst>
              <a:gd name="textAreaLeft" fmla="*/ 52560 w 2571840"/>
              <a:gd name="textAreaRight" fmla="*/ 2572200 w 25718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571750" h="928688">
                <a:moveTo>
                  <a:pt x="52733" y="332732"/>
                </a:moveTo>
                <a:lnTo>
                  <a:pt x="52732" y="332732"/>
                </a:lnTo>
                <a:arcTo wR="1285875" hR="464344" stAng="-10434476" swAng="10434484"/>
                <a:lnTo>
                  <a:pt x="1285875" y="464344"/>
                </a:lnTo>
                <a:close/>
              </a:path>
              <a:path fill="none" w="2571750" h="928688">
                <a:moveTo>
                  <a:pt x="52733" y="332732"/>
                </a:moveTo>
                <a:lnTo>
                  <a:pt x="52732" y="332732"/>
                </a:lnTo>
                <a:arcTo wR="1285875" hR="464344" stAng="-10434476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rc 8"/>
          <p:cNvSpPr/>
          <p:nvPr/>
        </p:nvSpPr>
        <p:spPr>
          <a:xfrm flipV="1">
            <a:off x="4286160" y="5572080"/>
            <a:ext cx="1071720" cy="928800"/>
          </a:xfrm>
          <a:custGeom>
            <a:avLst/>
            <a:gdLst>
              <a:gd name="textAreaLeft" fmla="*/ 3960 w 1071720"/>
              <a:gd name="textAreaRight" fmla="*/ 1072080 w 1071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71563" h="928688">
                <a:moveTo>
                  <a:pt x="4017" y="407589"/>
                </a:moveTo>
                <a:lnTo>
                  <a:pt x="4017" y="407589"/>
                </a:lnTo>
                <a:arcTo wR="535782" hR="464344" stAng="-10434475" swAng="10434481"/>
                <a:lnTo>
                  <a:pt x="535782" y="464344"/>
                </a:lnTo>
                <a:close/>
              </a:path>
              <a:path fill="none" w="1071563" h="928688">
                <a:moveTo>
                  <a:pt x="4017" y="407589"/>
                </a:moveTo>
                <a:lnTo>
                  <a:pt x="4017" y="407589"/>
                </a:lnTo>
                <a:arcTo wR="535782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rc 9"/>
          <p:cNvSpPr/>
          <p:nvPr/>
        </p:nvSpPr>
        <p:spPr>
          <a:xfrm flipV="1">
            <a:off x="5500800" y="5500800"/>
            <a:ext cx="1500120" cy="1000080"/>
          </a:xfrm>
          <a:custGeom>
            <a:avLst/>
            <a:gdLst>
              <a:gd name="textAreaLeft" fmla="*/ 9360 w 1500120"/>
              <a:gd name="textAreaRight" fmla="*/ 1500480 w 15001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500187" h="1000125">
                <a:moveTo>
                  <a:pt x="9432" y="421012"/>
                </a:moveTo>
                <a:lnTo>
                  <a:pt x="9431" y="421012"/>
                </a:lnTo>
                <a:arcTo wR="750094" hR="500063" stAng="-10434477" swAng="10434486"/>
                <a:lnTo>
                  <a:pt x="750094" y="500063"/>
                </a:lnTo>
                <a:close/>
              </a:path>
              <a:path fill="none" w="1500187" h="1000125">
                <a:moveTo>
                  <a:pt x="9432" y="421012"/>
                </a:moveTo>
                <a:lnTo>
                  <a:pt x="9431" y="421012"/>
                </a:lnTo>
                <a:arcTo wR="750094" hR="500063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rc 10"/>
          <p:cNvSpPr/>
          <p:nvPr/>
        </p:nvSpPr>
        <p:spPr>
          <a:xfrm flipV="1">
            <a:off x="7072200" y="557208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42876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32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7164360" y="478152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471636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113440" cy="47815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900000" y="478152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2195640" y="479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u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rc 6"/>
          <p:cNvSpPr/>
          <p:nvPr/>
        </p:nvSpPr>
        <p:spPr>
          <a:xfrm flipV="1">
            <a:off x="2357280" y="5572080"/>
            <a:ext cx="2071800" cy="928800"/>
          </a:xfrm>
          <a:custGeom>
            <a:avLst/>
            <a:gdLst>
              <a:gd name="textAreaLeft" fmla="*/ 28080 w 2071800"/>
              <a:gd name="textAreaRight" fmla="*/ 2072160 w 20718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  <a:lnTo>
                  <a:pt x="1035844" y="464344"/>
                </a:lnTo>
                <a:close/>
              </a:path>
              <a:path fill="none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rc 8"/>
          <p:cNvSpPr/>
          <p:nvPr/>
        </p:nvSpPr>
        <p:spPr>
          <a:xfrm flipV="1">
            <a:off x="4857840" y="5572080"/>
            <a:ext cx="2357280" cy="928800"/>
          </a:xfrm>
          <a:custGeom>
            <a:avLst/>
            <a:gdLst>
              <a:gd name="textAreaLeft" fmla="*/ 40680 w 2357280"/>
              <a:gd name="textAreaRight" fmla="*/ 2357640 w 23572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  <a:lnTo>
                  <a:pt x="1178719" y="464344"/>
                </a:lnTo>
                <a:close/>
              </a:path>
              <a:path fill="none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rc 9"/>
          <p:cNvSpPr/>
          <p:nvPr/>
        </p:nvSpPr>
        <p:spPr>
          <a:xfrm flipV="1">
            <a:off x="7286760" y="5572080"/>
            <a:ext cx="1000080" cy="928800"/>
          </a:xfrm>
          <a:custGeom>
            <a:avLst/>
            <a:gdLst>
              <a:gd name="textAreaLeft" fmla="*/ 3240 w 1000080"/>
              <a:gd name="textAreaRight" fmla="*/ 1000440 w 10000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00125" h="928688">
                <a:moveTo>
                  <a:pt x="3271" y="411322"/>
                </a:moveTo>
                <a:lnTo>
                  <a:pt x="3271" y="411322"/>
                </a:lnTo>
                <a:arcTo wR="500063" hR="464344" stAng="-10434477" swAng="10434484"/>
                <a:lnTo>
                  <a:pt x="500063" y="464344"/>
                </a:lnTo>
                <a:close/>
              </a:path>
              <a:path fill="none" w="1000125" h="928688">
                <a:moveTo>
                  <a:pt x="3271" y="411322"/>
                </a:moveTo>
                <a:lnTo>
                  <a:pt x="3271" y="411322"/>
                </a:lnTo>
                <a:arcTo wR="500063" hR="464344" stAng="-10434477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2071800" y="6046920"/>
            <a:ext cx="64292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58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Image 10" descr="introduce.gif"/>
          <p:cNvPicPr/>
          <p:nvPr/>
        </p:nvPicPr>
        <p:blipFill>
          <a:blip r:embed="rId1"/>
          <a:stretch/>
        </p:blipFill>
        <p:spPr>
          <a:xfrm>
            <a:off x="1549440" y="571680"/>
            <a:ext cx="6022800" cy="42764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2928960" y="4781520"/>
            <a:ext cx="206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pr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4714920" y="478152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42920" y="4781520"/>
            <a:ext cx="271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214200" y="235728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214200" y="3571920"/>
            <a:ext cx="153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6715080" y="4786200"/>
            <a:ext cx="20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8"/>
          <p:cNvSpPr/>
          <p:nvPr/>
        </p:nvSpPr>
        <p:spPr>
          <a:xfrm flipV="1">
            <a:off x="428760" y="428616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9"/>
          <p:cNvSpPr/>
          <p:nvPr/>
        </p:nvSpPr>
        <p:spPr>
          <a:xfrm flipV="1">
            <a:off x="3000240" y="5643000"/>
            <a:ext cx="1785960" cy="857160"/>
          </a:xfrm>
          <a:custGeom>
            <a:avLst/>
            <a:gdLst>
              <a:gd name="textAreaLeft" fmla="*/ 21240 w 1785960"/>
              <a:gd name="textAreaRight" fmla="*/ 1786320 w 1785960"/>
              <a:gd name="textAreaTop" fmla="*/ 0 h 857160"/>
              <a:gd name="textAreaBottom" fmla="*/ 428760 h 857160"/>
            </a:gdLst>
            <a:ahLst/>
            <a:rect l="textAreaLeft" t="textAreaTop" r="textAreaRight" b="textAreaBottom"/>
            <a:pathLst>
              <a:path stroke="0" w="1785938" h="857250">
                <a:moveTo>
                  <a:pt x="21288" y="335591"/>
                </a:moveTo>
                <a:lnTo>
                  <a:pt x="21288" y="335591"/>
                </a:lnTo>
                <a:arcTo wR="892969" hR="428625" stAng="-10434475" swAng="10434483"/>
                <a:lnTo>
                  <a:pt x="892969" y="428625"/>
                </a:lnTo>
                <a:close/>
              </a:path>
              <a:path fill="none" w="1785938" h="857250">
                <a:moveTo>
                  <a:pt x="21288" y="335591"/>
                </a:moveTo>
                <a:lnTo>
                  <a:pt x="21288" y="335591"/>
                </a:lnTo>
                <a:arcTo wR="892969" hR="428625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rc 10"/>
          <p:cNvSpPr/>
          <p:nvPr/>
        </p:nvSpPr>
        <p:spPr>
          <a:xfrm flipV="1">
            <a:off x="4786200" y="5572080"/>
            <a:ext cx="2000520" cy="928800"/>
          </a:xfrm>
          <a:custGeom>
            <a:avLst/>
            <a:gdLst>
              <a:gd name="textAreaLeft" fmla="*/ 25200 w 2000520"/>
              <a:gd name="textAreaRight" fmla="*/ 2000880 w 20005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000250" h="928688">
                <a:moveTo>
                  <a:pt x="25422" y="360315"/>
                </a:moveTo>
                <a:lnTo>
                  <a:pt x="25422" y="360315"/>
                </a:lnTo>
                <a:arcTo wR="1000125" hR="464344" stAng="-10434477" swAng="10434487"/>
                <a:lnTo>
                  <a:pt x="1000125" y="464344"/>
                </a:lnTo>
                <a:close/>
              </a:path>
              <a:path fill="none" w="2000250" h="928688">
                <a:moveTo>
                  <a:pt x="25422" y="360315"/>
                </a:moveTo>
                <a:lnTo>
                  <a:pt x="25422" y="360315"/>
                </a:lnTo>
                <a:arcTo wR="1000125" hR="464344" stAng="-10434477" swAng="10434487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13"/>
          <p:cNvSpPr/>
          <p:nvPr/>
        </p:nvSpPr>
        <p:spPr>
          <a:xfrm flipV="1">
            <a:off x="6858000" y="5572080"/>
            <a:ext cx="1500120" cy="928800"/>
          </a:xfrm>
          <a:custGeom>
            <a:avLst/>
            <a:gdLst>
              <a:gd name="textAreaLeft" fmla="*/ 10800 w 1500120"/>
              <a:gd name="textAreaRight" fmla="*/ 1500480 w 15001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  <a:lnTo>
                  <a:pt x="750094" y="464344"/>
                </a:lnTo>
                <a:close/>
              </a:path>
              <a:path fill="none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flipV="1">
            <a:off x="214200" y="5572080"/>
            <a:ext cx="2428920" cy="928800"/>
          </a:xfrm>
          <a:custGeom>
            <a:avLst/>
            <a:gdLst>
              <a:gd name="textAreaLeft" fmla="*/ 44640 w 2428920"/>
              <a:gd name="textAreaRight" fmla="*/ 2429280 w 2428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  <a:lnTo>
                  <a:pt x="1214438" y="464344"/>
                </a:lnTo>
                <a:close/>
              </a:path>
              <a:path fill="none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214200" y="6046920"/>
            <a:ext cx="821556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79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6335640" y="4781520"/>
            <a:ext cx="180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d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519440" y="478152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285840" y="478152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1357200" y="478800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’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Image 7" descr="lose2.gif"/>
          <p:cNvPicPr/>
          <p:nvPr/>
        </p:nvPicPr>
        <p:blipFill>
          <a:blip r:embed="rId1"/>
          <a:stretch/>
        </p:blipFill>
        <p:spPr>
          <a:xfrm>
            <a:off x="1547640" y="395280"/>
            <a:ext cx="5667480" cy="4513320"/>
          </a:xfrm>
          <a:prstGeom prst="rect">
            <a:avLst/>
          </a:prstGeom>
          <a:ln w="0">
            <a:noFill/>
          </a:ln>
        </p:spPr>
      </p:pic>
      <p:sp>
        <p:nvSpPr>
          <p:cNvPr id="594" name="Arc 6"/>
          <p:cNvSpPr/>
          <p:nvPr/>
        </p:nvSpPr>
        <p:spPr>
          <a:xfrm flipV="1">
            <a:off x="1500120" y="5572080"/>
            <a:ext cx="2500560" cy="928800"/>
          </a:xfrm>
          <a:custGeom>
            <a:avLst/>
            <a:gdLst>
              <a:gd name="textAreaLeft" fmla="*/ 48600 w 2500560"/>
              <a:gd name="textAreaRight" fmla="*/ 2500920 w 25005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500312" h="928688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  <a:lnTo>
                  <a:pt x="1250156" y="464344"/>
                </a:lnTo>
                <a:close/>
              </a:path>
              <a:path fill="none" w="2500312" h="928688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8"/>
          <p:cNvSpPr/>
          <p:nvPr/>
        </p:nvSpPr>
        <p:spPr>
          <a:xfrm flipV="1">
            <a:off x="4572000" y="5572080"/>
            <a:ext cx="1714680" cy="928800"/>
          </a:xfrm>
          <a:custGeom>
            <a:avLst/>
            <a:gdLst>
              <a:gd name="textAreaLeft" fmla="*/ 15840 w 1714680"/>
              <a:gd name="textAreaRight" fmla="*/ 1715040 w 17146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  <a:lnTo>
                  <a:pt x="857250" y="464344"/>
                </a:lnTo>
                <a:close/>
              </a:path>
              <a:path fill="none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9"/>
          <p:cNvSpPr/>
          <p:nvPr/>
        </p:nvSpPr>
        <p:spPr>
          <a:xfrm flipV="1">
            <a:off x="6429240" y="5572080"/>
            <a:ext cx="1357560" cy="928800"/>
          </a:xfrm>
          <a:custGeom>
            <a:avLst/>
            <a:gdLst>
              <a:gd name="textAreaLeft" fmla="*/ 7920 w 1357560"/>
              <a:gd name="textAreaRight" fmla="*/ 1357920 w 13575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357313" h="928688">
                <a:moveTo>
                  <a:pt x="8109" y="392777"/>
                </a:moveTo>
                <a:lnTo>
                  <a:pt x="8109" y="392777"/>
                </a:lnTo>
                <a:arcTo wR="678657" hR="464344" stAng="-10434476" swAng="10434486"/>
                <a:lnTo>
                  <a:pt x="678657" y="464344"/>
                </a:lnTo>
                <a:close/>
              </a:path>
              <a:path fill="none" w="1357313" h="928688">
                <a:moveTo>
                  <a:pt x="8109" y="392777"/>
                </a:moveTo>
                <a:lnTo>
                  <a:pt x="8109" y="392777"/>
                </a:lnTo>
                <a:arcTo wR="678657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42876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11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6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2612880" cy="54738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2"/>
          <p:cNvSpPr/>
          <p:nvPr/>
        </p:nvSpPr>
        <p:spPr>
          <a:xfrm>
            <a:off x="4932360" y="47815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1619280" y="478152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72360" y="4802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3060720" y="479736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rc 7"/>
          <p:cNvSpPr/>
          <p:nvPr/>
        </p:nvSpPr>
        <p:spPr>
          <a:xfrm flipV="1">
            <a:off x="3214800" y="5572080"/>
            <a:ext cx="1214280" cy="928800"/>
          </a:xfrm>
          <a:custGeom>
            <a:avLst/>
            <a:gdLst>
              <a:gd name="textAreaLeft" fmla="*/ 5760 w 1214280"/>
              <a:gd name="textAreaRight" fmla="*/ 1214640 w 12142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  <a:lnTo>
                  <a:pt x="607219" y="464344"/>
                </a:lnTo>
                <a:close/>
              </a:path>
              <a:path fill="none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8"/>
          <p:cNvSpPr/>
          <p:nvPr/>
        </p:nvSpPr>
        <p:spPr>
          <a:xfrm flipV="1">
            <a:off x="5214960" y="5500800"/>
            <a:ext cx="1143000" cy="1000080"/>
          </a:xfrm>
          <a:custGeom>
            <a:avLst/>
            <a:gdLst>
              <a:gd name="textAreaLeft" fmla="*/ 3960 w 1143000"/>
              <a:gd name="textAreaRight" fmla="*/ 1143360 w 114300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143000" h="1000125">
                <a:moveTo>
                  <a:pt x="4205" y="439516"/>
                </a:moveTo>
                <a:lnTo>
                  <a:pt x="4205" y="439516"/>
                </a:lnTo>
                <a:arcTo wR="571500" hR="500063" stAng="-10434475" swAng="10434481"/>
                <a:lnTo>
                  <a:pt x="571500" y="500063"/>
                </a:lnTo>
                <a:close/>
              </a:path>
              <a:path fill="none" w="1143000" h="1000125">
                <a:moveTo>
                  <a:pt x="4205" y="439516"/>
                </a:moveTo>
                <a:lnTo>
                  <a:pt x="4205" y="439516"/>
                </a:lnTo>
                <a:arcTo wR="571500" hR="500063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rc 9"/>
          <p:cNvSpPr/>
          <p:nvPr/>
        </p:nvSpPr>
        <p:spPr>
          <a:xfrm flipV="1">
            <a:off x="6500880" y="5572080"/>
            <a:ext cx="1285920" cy="928800"/>
          </a:xfrm>
          <a:custGeom>
            <a:avLst/>
            <a:gdLst>
              <a:gd name="textAreaLeft" fmla="*/ 6840 w 1285920"/>
              <a:gd name="textAreaRight" fmla="*/ 1286280 w 1285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85875" h="928688">
                <a:moveTo>
                  <a:pt x="6907" y="396461"/>
                </a:moveTo>
                <a:lnTo>
                  <a:pt x="6907" y="396461"/>
                </a:lnTo>
                <a:arcTo wR="642938" hR="464344" stAng="-10434476" swAng="10434482"/>
                <a:lnTo>
                  <a:pt x="642938" y="464344"/>
                </a:lnTo>
                <a:close/>
              </a:path>
              <a:path fill="none" w="1285875" h="928688">
                <a:moveTo>
                  <a:pt x="6907" y="396461"/>
                </a:moveTo>
                <a:lnTo>
                  <a:pt x="6907" y="396461"/>
                </a:lnTo>
                <a:arcTo wR="642938" hR="464344" stAng="-10434476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2928960" y="6000840"/>
            <a:ext cx="5572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131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"/>
          <p:cNvPicPr/>
          <p:nvPr/>
        </p:nvPicPr>
        <p:blipFill>
          <a:blip r:embed="rId1"/>
          <a:srcRect l="0" t="22162" r="0" b="0"/>
          <a:stretch/>
        </p:blipFill>
        <p:spPr>
          <a:xfrm>
            <a:off x="5643720" y="1143000"/>
            <a:ext cx="2143080" cy="4014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"/>
          <p:cNvPicPr/>
          <p:nvPr/>
        </p:nvPicPr>
        <p:blipFill>
          <a:blip r:embed="rId2"/>
          <a:stretch/>
        </p:blipFill>
        <p:spPr>
          <a:xfrm>
            <a:off x="3419640" y="0"/>
            <a:ext cx="2442960" cy="5157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rcRect l="0" t="22162" r="0" b="0"/>
          <a:stretch/>
        </p:blipFill>
        <p:spPr>
          <a:xfrm>
            <a:off x="1071720" y="1214280"/>
            <a:ext cx="2786040" cy="40150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3492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ll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2986200" y="478152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6357960" y="47530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lé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653080" y="47530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rc 7"/>
          <p:cNvSpPr/>
          <p:nvPr/>
        </p:nvSpPr>
        <p:spPr>
          <a:xfrm flipV="1">
            <a:off x="3143160" y="5572080"/>
            <a:ext cx="2214720" cy="92880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  <a:lnTo>
                  <a:pt x="1107282" y="464344"/>
                </a:lnTo>
                <a:close/>
              </a:path>
              <a:path fill="none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rc 8"/>
          <p:cNvSpPr/>
          <p:nvPr/>
        </p:nvSpPr>
        <p:spPr>
          <a:xfrm flipV="1">
            <a:off x="5786280" y="5572080"/>
            <a:ext cx="642960" cy="928800"/>
          </a:xfrm>
          <a:custGeom>
            <a:avLst/>
            <a:gdLst>
              <a:gd name="textAreaLeft" fmla="*/ 720 w 642960"/>
              <a:gd name="textAreaRight" fmla="*/ 643320 w 6429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642937" h="928688">
                <a:moveTo>
                  <a:pt x="874" y="430127"/>
                </a:moveTo>
                <a:lnTo>
                  <a:pt x="874" y="430127"/>
                </a:lnTo>
                <a:arcTo wR="321469" hR="464344" stAng="-10434474" swAng="10434485"/>
                <a:lnTo>
                  <a:pt x="321469" y="464344"/>
                </a:lnTo>
                <a:close/>
              </a:path>
              <a:path fill="none" w="642937" h="928688">
                <a:moveTo>
                  <a:pt x="874" y="430127"/>
                </a:moveTo>
                <a:lnTo>
                  <a:pt x="874" y="430127"/>
                </a:lnTo>
                <a:arcTo wR="321469" hR="464344" stAng="-10434474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rc 9"/>
          <p:cNvSpPr/>
          <p:nvPr/>
        </p:nvSpPr>
        <p:spPr>
          <a:xfrm flipV="1">
            <a:off x="6500880" y="5572080"/>
            <a:ext cx="2428920" cy="928800"/>
          </a:xfrm>
          <a:custGeom>
            <a:avLst/>
            <a:gdLst>
              <a:gd name="textAreaLeft" fmla="*/ 44640 w 2428920"/>
              <a:gd name="textAreaRight" fmla="*/ 2429280 w 2428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  <a:lnTo>
                  <a:pt x="1214438" y="464344"/>
                </a:lnTo>
                <a:close/>
              </a:path>
              <a:path fill="none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92880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152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Image 7" descr="marry.gif"/>
          <p:cNvPicPr/>
          <p:nvPr/>
        </p:nvPicPr>
        <p:blipFill>
          <a:blip r:embed="rId1"/>
          <a:stretch/>
        </p:blipFill>
        <p:spPr>
          <a:xfrm>
            <a:off x="2865600" y="0"/>
            <a:ext cx="4421160" cy="49291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"/>
          <p:cNvSpPr/>
          <p:nvPr/>
        </p:nvSpPr>
        <p:spPr>
          <a:xfrm>
            <a:off x="5143680" y="4826160"/>
            <a:ext cx="192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6804000" y="482616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i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142920" y="4826160"/>
            <a:ext cx="479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mm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142920" y="228744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142920" y="357192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rc 7"/>
          <p:cNvSpPr/>
          <p:nvPr/>
        </p:nvSpPr>
        <p:spPr>
          <a:xfrm flipV="1">
            <a:off x="0" y="5572080"/>
            <a:ext cx="4786200" cy="928800"/>
          </a:xfrm>
          <a:custGeom>
            <a:avLst/>
            <a:gdLst>
              <a:gd name="textAreaLeft" fmla="*/ 251280 w 4786200"/>
              <a:gd name="textAreaRight" fmla="*/ 4786560 w 47862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4786313" h="928688">
                <a:moveTo>
                  <a:pt x="251466" y="257144"/>
                </a:moveTo>
                <a:lnTo>
                  <a:pt x="251466" y="257144"/>
                </a:lnTo>
                <a:arcTo wR="2393157" hR="464344" stAng="-10468444" swAng="10468451"/>
                <a:lnTo>
                  <a:pt x="2393157" y="464344"/>
                </a:lnTo>
                <a:close/>
              </a:path>
              <a:path fill="none" w="4786313" h="928688">
                <a:moveTo>
                  <a:pt x="251466" y="257144"/>
                </a:moveTo>
                <a:lnTo>
                  <a:pt x="251466" y="257144"/>
                </a:lnTo>
                <a:arcTo wR="2393157" hR="464344" stAng="-10468444" swAng="1046845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rc 9"/>
          <p:cNvSpPr/>
          <p:nvPr/>
        </p:nvSpPr>
        <p:spPr>
          <a:xfrm flipV="1">
            <a:off x="5214960" y="5572080"/>
            <a:ext cx="1643040" cy="928800"/>
          </a:xfrm>
          <a:custGeom>
            <a:avLst/>
            <a:gdLst>
              <a:gd name="textAreaLeft" fmla="*/ 14040 w 1643040"/>
              <a:gd name="textAreaRight" fmla="*/ 1643400 w 16430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  <a:lnTo>
                  <a:pt x="821531" y="464344"/>
                </a:lnTo>
                <a:close/>
              </a:path>
              <a:path fill="none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rc 10"/>
          <p:cNvSpPr/>
          <p:nvPr/>
        </p:nvSpPr>
        <p:spPr>
          <a:xfrm flipV="1">
            <a:off x="6929280" y="5572080"/>
            <a:ext cx="1928880" cy="928800"/>
          </a:xfrm>
          <a:custGeom>
            <a:avLst/>
            <a:gdLst>
              <a:gd name="textAreaLeft" fmla="*/ 22680 w 1928880"/>
              <a:gd name="textAreaRight" fmla="*/ 1929240 w 19288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928812" h="928688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  <a:lnTo>
                  <a:pt x="964406" y="464344"/>
                </a:lnTo>
                <a:close/>
              </a:path>
              <a:path fill="none" w="1928812" h="928688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rc 11"/>
          <p:cNvSpPr/>
          <p:nvPr/>
        </p:nvSpPr>
        <p:spPr>
          <a:xfrm flipV="1">
            <a:off x="357120" y="4357080"/>
            <a:ext cx="2571840" cy="928440"/>
          </a:xfrm>
          <a:custGeom>
            <a:avLst/>
            <a:gdLst>
              <a:gd name="textAreaLeft" fmla="*/ 52560 w 2571840"/>
              <a:gd name="textAreaRight" fmla="*/ 2572200 w 257184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571750" h="928687">
                <a:moveTo>
                  <a:pt x="52733" y="332731"/>
                </a:moveTo>
                <a:lnTo>
                  <a:pt x="52732" y="332731"/>
                </a:lnTo>
                <a:arcTo wR="1285875" hR="464344" stAng="-10434476" swAng="10434484"/>
                <a:lnTo>
                  <a:pt x="1285875" y="464344"/>
                </a:lnTo>
                <a:close/>
              </a:path>
              <a:path fill="none" w="2571750" h="928687">
                <a:moveTo>
                  <a:pt x="52733" y="332731"/>
                </a:moveTo>
                <a:lnTo>
                  <a:pt x="52732" y="332731"/>
                </a:lnTo>
                <a:arcTo wR="1285875" hR="464344" stAng="-10434476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173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Image 6" descr="meet.gif"/>
          <p:cNvPicPr/>
          <p:nvPr/>
        </p:nvPicPr>
        <p:blipFill>
          <a:blip r:embed="rId1"/>
          <a:stretch/>
        </p:blipFill>
        <p:spPr>
          <a:xfrm>
            <a:off x="2884320" y="798480"/>
            <a:ext cx="5187960" cy="405936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2"/>
          <p:cNvSpPr/>
          <p:nvPr/>
        </p:nvSpPr>
        <p:spPr>
          <a:xfrm>
            <a:off x="71280" y="4753080"/>
            <a:ext cx="27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ê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2643120" y="47815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114480" y="214308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154080" y="3373560"/>
            <a:ext cx="284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357800" y="478620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6286680" y="478620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ré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rc 9"/>
          <p:cNvSpPr/>
          <p:nvPr/>
        </p:nvSpPr>
        <p:spPr>
          <a:xfrm flipV="1">
            <a:off x="428760" y="4143240"/>
            <a:ext cx="2357280" cy="928800"/>
          </a:xfrm>
          <a:custGeom>
            <a:avLst/>
            <a:gdLst>
              <a:gd name="textAreaLeft" fmla="*/ 40680 w 2357280"/>
              <a:gd name="textAreaRight" fmla="*/ 2357640 w 23572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  <a:lnTo>
                  <a:pt x="1178719" y="464344"/>
                </a:lnTo>
                <a:close/>
              </a:path>
              <a:path fill="none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10"/>
          <p:cNvSpPr/>
          <p:nvPr/>
        </p:nvSpPr>
        <p:spPr>
          <a:xfrm flipV="1">
            <a:off x="214200" y="5500080"/>
            <a:ext cx="2214720" cy="92844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214562" h="928687">
                <a:moveTo>
                  <a:pt x="34209" y="349815"/>
                </a:moveTo>
                <a:lnTo>
                  <a:pt x="34209" y="349815"/>
                </a:lnTo>
                <a:arcTo wR="1107281" hR="464344" stAng="-10434476" swAng="10434486"/>
                <a:lnTo>
                  <a:pt x="1107281" y="464344"/>
                </a:lnTo>
                <a:close/>
              </a:path>
              <a:path fill="none" w="2214562" h="928687">
                <a:moveTo>
                  <a:pt x="34209" y="349815"/>
                </a:moveTo>
                <a:lnTo>
                  <a:pt x="34209" y="349815"/>
                </a:lnTo>
                <a:arcTo wR="1107281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rc 11"/>
          <p:cNvSpPr/>
          <p:nvPr/>
        </p:nvSpPr>
        <p:spPr>
          <a:xfrm flipV="1">
            <a:off x="4500720" y="5500080"/>
            <a:ext cx="1928520" cy="928440"/>
          </a:xfrm>
          <a:custGeom>
            <a:avLst/>
            <a:gdLst>
              <a:gd name="textAreaLeft" fmla="*/ 22680 w 1928520"/>
              <a:gd name="textAreaRight" fmla="*/ 1928880 w 192852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1928812" h="928687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  <a:lnTo>
                  <a:pt x="964406" y="464344"/>
                </a:lnTo>
                <a:close/>
              </a:path>
              <a:path fill="none" w="1928812" h="928687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rc 12"/>
          <p:cNvSpPr/>
          <p:nvPr/>
        </p:nvSpPr>
        <p:spPr>
          <a:xfrm flipV="1">
            <a:off x="6500880" y="5500080"/>
            <a:ext cx="2500200" cy="928440"/>
          </a:xfrm>
          <a:custGeom>
            <a:avLst/>
            <a:gdLst>
              <a:gd name="textAreaLeft" fmla="*/ 48600 w 2500200"/>
              <a:gd name="textAreaRight" fmla="*/ 2500560 w 250020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500312" h="928687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  <a:lnTo>
                  <a:pt x="1250156" y="464344"/>
                </a:lnTo>
                <a:close/>
              </a:path>
              <a:path fill="none" w="2500312" h="928687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rc 13"/>
          <p:cNvSpPr/>
          <p:nvPr/>
        </p:nvSpPr>
        <p:spPr>
          <a:xfrm flipV="1">
            <a:off x="2714760" y="5572080"/>
            <a:ext cx="1714320" cy="928800"/>
          </a:xfrm>
          <a:custGeom>
            <a:avLst/>
            <a:gdLst>
              <a:gd name="textAreaLeft" fmla="*/ 15840 w 1714320"/>
              <a:gd name="textAreaRight" fmla="*/ 1714680 w 17143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  <a:lnTo>
                  <a:pt x="857250" y="464344"/>
                </a:lnTo>
                <a:close/>
              </a:path>
              <a:path fill="none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71280" y="5929200"/>
            <a:ext cx="89298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19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5:20:19Z</dcterms:created>
  <dc:creator>bjactat</dc:creator>
  <dc:description/>
  <dc:language>en-US</dc:language>
  <cp:lastModifiedBy>Usuario</cp:lastModifiedBy>
  <dcterms:modified xsi:type="dcterms:W3CDTF">2010-11-23T19:36:17Z</dcterms:modified>
  <cp:revision>67</cp:revision>
  <dc:subject/>
  <dc:title>Diapositive 1</dc:title>
</cp:coreProperties>
</file>